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AE3-0CEE-44C0-9F26-B2FC3B52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D4B-AC68-4787-A1A4-3EFF4699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131-978D-425A-B4E2-43624F23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5E5-9226-4B3A-A0E0-01B6183D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61A-B64A-4D2F-8E8E-F211C4A2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D86-734F-42B6-8746-F837F0D1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0F0-D4F1-4BB2-AB19-DF52184B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0EC-89A7-4F20-B27E-523795CE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6B2-61F4-4E02-A9E6-131E73C6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4BF-5975-4394-87DD-0FBB58E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99C-7BE9-472C-A340-E621A1F2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A5B-EA5B-4630-8B1F-D4F294C1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EF02-B8E9-484E-A0AF-3A3B9A9F4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blc1519f03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Mblasp10f04" descr=""/>
          <p:cNvPicPr/>
          <p:nvPr/>
        </p:nvPicPr>
        <p:blipFill>
          <a:blip r:embed="rId2"/>
          <a:stretch/>
        </p:blipFill>
        <p:spPr>
          <a:xfrm>
            <a:off x="152280" y="369576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3160" y="7632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cleaning: UV o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blasp10f02" descr=""/>
          <p:cNvPicPr/>
          <p:nvPr/>
        </p:nvPicPr>
        <p:blipFill>
          <a:blip r:embed="rId3"/>
          <a:stretch/>
        </p:blipFill>
        <p:spPr>
          <a:xfrm>
            <a:off x="152280" y="55260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8520" y="5634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d before UV ozone clea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8880" y="373392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d w. better tip (same da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71760" y="609480"/>
            <a:ext cx="27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cleaning (and 5 days la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30440" y="380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t seems it does work a bit at lea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7720" y="4114800"/>
            <a:ext cx="411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 used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tip in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V ozone cleaner for 1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r room 828, contact person Rob Zonderv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with ethanol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uspect that it is the last ethanol rinse that is importa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562720"/>
            <a:ext cx="3809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e is MBL/MASP complexes. It seems we only see MASP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ensity is probably very low due to a rinse with buffer before DI water rins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haps complexes sedimented due to 6 min ultracentrifugation or they wre washed 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32280" y="6485040"/>
            <a:ext cx="14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nriette October 15 200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43:30Z</dcterms:created>
  <dc:creator>Henriette Jensenius</dc:creator>
  <dc:description/>
  <dc:language>en-US</dc:language>
  <cp:lastModifiedBy>hjensen</cp:lastModifiedBy>
  <dcterms:modified xsi:type="dcterms:W3CDTF">2003-07-11T09:04:22Z</dcterms:modified>
  <cp:revision>5</cp:revision>
  <dc:subject/>
  <dc:title>PowerPoint Presentation</dc:title>
</cp:coreProperties>
</file>